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01C2-5262-4DA7-819F-DA3D7A9F5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BFAD-7840-4B68-861C-B3A1B6F2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DEC14C-3E9A-4C0E-8AC8-3D3F6380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215204-6A6B-4F21-BF18-9036A730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37FBE9-FAEF-4CE1-8A9B-63221934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C9B97D-1ABA-4D23-ADD1-840D29D4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F582CB-1D1D-4131-A56C-1C934ADE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31BDA-33A0-41D8-A85D-8BCDFA56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314AC2-8F59-4844-96CA-42EE807F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1ABAB7-0B25-4A9F-9D49-BB7C14C0B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111C07-1786-4165-BD3D-6ECB4B4D1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C1624F-0FC8-4734-8E78-48FDB3B96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870B-7C80-4A4C-B7B1-67804BFA1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A43F19-D185-443E-B821-66678859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3FE3E1-2A3D-4DE8-958B-A80C1A42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5B985E-F64A-406B-8032-3BC580B3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33C737-969A-45A7-9F9C-E401DA74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25F183-5F8B-45F3-91C3-E29FBCB9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F770BB-9D78-4664-8CE3-5951FD42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52E081-5D93-43AE-BA9F-044A2A4F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E27E44-5A5E-4000-A6F0-6CB783C7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53A13D-6612-46E5-A5D2-756AE0DF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66C6DC-D90D-49D9-B42C-1508C3516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2AEE-F1BF-4D36-9E9F-CA8F3B7FF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45E708-6C9E-420E-86BF-54405A091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FFDE-7767-4A7E-8FCA-4AA3272DB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BE0C-1007-4088-9087-FAA06821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A0852-6FAF-431C-B348-4202756A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39F7B-14B2-4CE6-A7EB-CD70D6FF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E4FB-E150-4088-950A-1BC9288A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DB61-1EDE-477A-B690-CA569625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5ECB-ED3F-43DA-8546-F64009F6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7E32-8D22-4517-B610-4C7EBA6A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52CCE-91EE-4456-AF48-ED6C5987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06925-480D-4FBB-886C-095674A1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FA7A-5FD6-4E75-81C2-3F7D0C4A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18F5-9D31-48F9-9E5C-BB51E0871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153C-319B-4452-ABDB-DF04D5BD8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3BA53-7B04-466A-8EC9-5AA693BF8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68E97-20E8-4280-9E3F-3D63D2D1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C60C6-818B-4C29-815A-E47A1381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8AF65-6D6C-4E80-A1A2-5FB5F56F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DEE13-31D4-4F68-B738-C7C43789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9E7E-6480-40F6-8E0F-0498D68C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7B9B5-1A23-4435-B597-3C51ABC7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6C952-CF2F-4C77-A3F8-387750F7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94421-01E2-4D9B-B24C-4BE7ECE8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B2764-530D-4223-A4C5-2F0E8FFD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F5426-5B44-40C4-B4CC-8656E710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64774-038D-4170-8BAF-F92AB5A94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921BB-E429-4B2A-882B-D61E64FCD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DF411-E8D4-447D-8461-0AFB395FF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0B57E-FEDE-46D0-B7DE-E3B9D2BD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4850A-3144-48FA-A4C4-41E4C137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13AE-077C-4DAF-99B5-370BFF8D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733C3-5B92-4F2D-A6BC-AA4785A6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ABDE4-FAE8-4B04-916E-9E694085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1A511-D155-41E7-B873-D6BEB141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C44EA-4561-47B1-874F-542593DB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EEAAA-A013-4CC7-91D0-F70626E1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E2B68-AED7-484B-9879-77B3DF14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DEA74-44BC-4AD6-A90A-98012320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7E0FF-8301-4A56-8E9A-F3AF46212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A0E20-6017-455A-88AA-96AA263E9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5BD24-FE45-46C3-8C28-1C848279B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47A1-C06D-47E9-A840-20F59B00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2DDE3-8E56-41FB-9AA5-A679D04A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1F0F8-A50F-4865-B46B-A50970B5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0DC52-0A00-4272-848D-0B6AA8B9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53D55-25D8-4F47-AA16-493FCCB5C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1767C-2F3A-4A15-BFCA-D75F84EC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60809-51E4-49AE-9F29-87FB6343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5B695-6CA1-48D9-BFA1-AF64E480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3F7E8-759C-4E14-BE1D-94692043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EB868-1C5D-4829-9AC3-975951B5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8E55A-9224-4EF0-89BD-03B0B288D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4A4B-5A71-45AF-9273-565A547C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95859-344E-432B-AA1D-9C2B16933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5BB44-B815-4E66-B9E2-9AF230F2C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C3B04-64EB-45F9-BFF8-16B3DFB9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8811D-0B72-4599-8487-104E2FBB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65F33-9F29-468B-AECF-7AC4722A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A4AF4-CFF7-45B2-8AA8-DB54A3E9E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70050-1697-411D-9C84-001B871D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C82AC-D690-4DFE-B184-0708F828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FEF3C-3721-483A-957E-E214CCD9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40775-209C-436D-9135-8691CE3E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D5D0-D3FD-4376-A06F-4C269ACF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C12FD-71EC-415B-A293-EFA8E508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96667-F1ED-4070-9E76-7A38CDFEE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193CB-663F-4812-A8EA-1FFFE669E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DDA1B-69D5-4B5A-AA1B-2105C6835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DCAB8-61E6-4CFC-80D1-11C40EB2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8D368-396D-4FB7-8287-14661794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E06FC-9FB1-416C-BA4B-8B0E0467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F0626-2FFF-46C9-9F63-808CEA7F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26FC9-F8B5-4B03-9D5D-0EA847E7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24D50-523C-41DB-A90E-F5C36D25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ABC6-73DE-4F3C-93B5-BEAF94E8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43DBC-F8D9-406F-87DD-F5E65C9E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602E5-CAB5-4B63-9EEC-6E462D00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11F7E-7C44-4ED1-BB4D-5AB4F1F0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9E838-F37D-4A29-9087-09FAF6353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64ECC-D906-458E-9FA9-983AB9D63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5AD24-D9E7-42E2-8626-5C5C19E27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7DCC8-F5C7-425D-8636-B1543F16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36956-3D74-42F1-80F2-60B6BFCE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34FA8-D971-4356-9B38-B13E42C2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AEC44-C36E-4EAA-B967-E6F16D10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BADB-0CC4-4B60-A9ED-6F54BBF3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226F7-2747-412A-836B-74ED7B78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C8D4C-CB2B-4FA1-99E6-28AD682A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5F210-C093-466D-8C5C-3668606D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68A9C-4F47-4E70-BFDD-EAD4C294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69606-A942-493E-8AE8-E7DC2614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70266-B3DD-4D9B-89EE-3271F6ABC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095AF-1B41-4618-9F09-8175AB150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73AEEF-8947-4497-88F4-FCB75101D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F91FEF-FFF4-4DB8-ACB0-226B8141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4F3E2E-D0E2-4659-B2B6-3B67274D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C766-3153-4C99-944F-2C27EB3AFB8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2BA2-B74A-4FD5-AE91-99E86B768DF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876C-28D1-4C01-B627-81867DB5915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B2D6-6417-45A3-A5C2-5DD25B703EA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CDC0-A036-4FDA-838C-A5C6F5C21B2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365B-3CF5-4E5F-A806-5EA014987A0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E47D-99A5-4E78-8E4D-834C387EF55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1EF9-7581-42DD-9C82-8532B439E7D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2932-DF31-4B0D-BB0C-7971D505174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682C-1F94-4DA3-8105-AD39875C137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3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제 이름은 김진수입니다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제 이름은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영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마이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스즈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프랑스와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량위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처음 뵙겠습니다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. 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제 이름은 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.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반갑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저는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야마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김경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톰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나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박정수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마이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최유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히로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리밍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영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Introduce yourself (in Korean) with the sentences from Lesson 1 to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스즈키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저는 스즈키입니다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진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제 이름은 김진수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스즈키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처음 뵙겠습니다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진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반갑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만나서 반갑습니다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름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na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처음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for the first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뵙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see, me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Corbel"/>
                <a:ea typeface="굴림"/>
              </a:rPr>
              <a:t>보다 </a:t>
            </a:r>
            <a:r>
              <a:rPr b="0" lang="ko-KR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Corbel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Corbel"/>
                <a:ea typeface="굴림"/>
              </a:rPr>
              <a:t>뵈옵다 </a:t>
            </a:r>
            <a:r>
              <a:rPr b="0" lang="ko-KR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Corbel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Corbel"/>
                <a:ea typeface="굴림"/>
              </a:rPr>
              <a:t>뵙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반갑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be glad, be n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rbel"/>
                <a:ea typeface="굴림"/>
              </a:rPr>
              <a:t>Irregular variation </a:t>
            </a:r>
            <a:r>
              <a:rPr b="0" lang="ko-KR" sz="2400" spc="-1" strike="noStrike">
                <a:solidFill>
                  <a:srgbClr val="ff0000"/>
                </a:solidFill>
                <a:latin typeface="Corbel"/>
                <a:ea typeface="굴림"/>
              </a:rPr>
              <a:t>반가웠습니다</a:t>
            </a:r>
            <a:r>
              <a:rPr b="0" lang="en-US" sz="2400" spc="-1" strike="noStrike">
                <a:solidFill>
                  <a:srgbClr val="ff0000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9bbb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는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postposition making noun su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는 한국말 선생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은 교과서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오늘은 비가 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root of the declarative ending when a noun is used as predicate (subject supple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는 김영수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것은 문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은 책상입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76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a humble expression of the first personla pronoun ‘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나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. Become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제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) with postposition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는 학생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는 미국 사람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제가 그 일을 하겠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제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) m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의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나의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제 책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여기가 제 방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은 내 가방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한국 사람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Korea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구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ho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회사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맑은 고딕"/>
              </a:rPr>
              <a:t>office?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) work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의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chai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중국 사람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Chines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시계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watch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미국 사람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America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책상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esk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할아버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grandfat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일본 사람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Japanes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머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구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회사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버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책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의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저는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정수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지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회사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본 사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중국 사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0-09T20:51:14Z</dcterms:modified>
  <cp:revision>76</cp:revision>
  <dc:subject/>
  <dc:title>KOREAN LANGUAGE</dc:title>
</cp:coreProperties>
</file>